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FFB6-2410-4393-8C1F-D70E8402DB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2 to 3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4248-3F66-4670-898A-EBA1AE0706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read the Easier English versions of the interview, then read the originals and note the differences in vocabulary and sentenc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EA3A-F07B-4A32-81EF-03AC7489C5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mings: lead-in/vocabulary: 15 - 30 mins; speaking: 15 - 30 mins; reading: 15 - 30 mins; grammar focus and practice: 15 - 30 mins; writing: 30 – 6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3D5B-E073-470C-A72A-B1D07E5A0D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don’t know words, feed in: a) demonstration, strike, boycott, march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) support, join in, disperse crowds, water canon, rubber bullets, sack, arrest, imprison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060B-1445-43DD-8826-51F30EF700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oint out countries where they heard about protests and discuss why people were prote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E5A7-C4BC-4556-805B-BBA7340A6E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fferent learners can read selected articles in pairs and discuss, or all learners can skim-read all 6 articles, then discuss: who? how? why? for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F39A-247A-4857-9695-3FB4C46897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uide learners to discuss the form/structure (and the meaning/function and phonolog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2F89-54EC-47BB-876F-5D3235EEB3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learners understand the meaning/function, form/structure and phonology (utterance stress – usually on past participles; contractions; pronunciation of “ed” ending of regular past participles et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BF0A-EB0D-42C9-A56F-B00566FBBF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rite their 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conditional sentences on the board or on flip-chart paper, and then correct any errors in each other’s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E3AC-272F-4D98-B2FA-2DDF2B6F36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ticles can be blu-tacked to the wall afterwards for all learners to read and decide: which would be most interesting for people to r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oups can then correct any errors in the 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7007-1E0D-47AC-9133-178635BE5E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5D3D-3940-4157-8EFC-0047124D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8FE3-E209-43E4-BC34-08C34D8B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653-A544-41DD-8CB9-33EEADC2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35E-7EAF-43D6-9736-0DE6530F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8403-5AF7-4EF8-98EC-E5DEE16A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7C9-4351-409F-B381-6732A0DC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9BE-4C8B-49E5-99BB-CD306D23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CC5E-1DB4-4538-816A-3BED2A5E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49E-4029-402A-9D25-1FA6AED6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15D-DB96-437F-B585-AAB1A248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3F00-EA67-4FB9-ABA9-110D0DC4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32B-4D26-462B-8790-85C24324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37A5-9C30-40D2-8051-7D922A51731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hyperlink" Target="http://eewiki.newint.org/index.php/Social_media_in_Turkey" TargetMode="External"/><Relationship Id="rId3" Type="http://schemas.openxmlformats.org/officeDocument/2006/relationships/hyperlink" Target="http://eewiki.newint.org/index.php/Rio_communities_come_together_in_protest" TargetMode="External"/><Relationship Id="rId4" Type="http://schemas.openxmlformats.org/officeDocument/2006/relationships/hyperlink" Target="http://eewiki.newint.org/index.php/Egypt:_what_happened_to_democracy,_freedom,_stability%3F" TargetMode="External"/><Relationship Id="rId5" Type="http://schemas.openxmlformats.org/officeDocument/2006/relationships/hyperlink" Target="http://eewiki.newint.org/index.php/Indonesians_won%27t_stop_fighting" TargetMode="External"/><Relationship Id="rId6" Type="http://schemas.openxmlformats.org/officeDocument/2006/relationships/hyperlink" Target="http://eewiki.newint.org/index.php/G8_hunger_summit:_protest_and_prais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termediate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6012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mework: read the Easier English texts again – then click on the original at the end of each article and read that: compare vocabulary and grammar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3357720"/>
            <a:ext cx="856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urkey: </a:t>
            </a:r>
            <a:r>
              <a:rPr b="0" lang="en-GB" sz="15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Social_media_in_Turke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azi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Rio_communities_come_together_in_prot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Egypt:_what_happened_to_democracy,_freedom,_stability%3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Indonesians_won%27t_stop_fight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UK: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G8_hunger_summit:_protest_and_prai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esson pla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Vocabular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pea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Homework / exten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, we need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ord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– in groups, list as many words/phrases as possible fo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3573000"/>
            <a:ext cx="42447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people can pro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hunger str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7960" y="3573000"/>
            <a:ext cx="42447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other people can respond to pro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force-f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ests in the last year: where/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781200" y="1503360"/>
            <a:ext cx="74898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/think: who? how?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2500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urke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2"/>
              </a:rPr>
              <a:t>http://eewiki.newint.org/index.php/Social_media_in_Turk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Brazi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3"/>
              </a:rPr>
              <a:t>http://eewiki.newint.org/index.php/Rio_communities_come_together_in_pro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4"/>
              </a:rPr>
              <a:t>http://eewiki.newint.org/index.php/Egypt:_what_happened_to_democracy,_freedom,_stability%3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donesi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5"/>
              </a:rPr>
              <a:t>http://eewiki.newint.org/index.php/Indonesians_won%27t_stop_f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UK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6"/>
              </a:rPr>
              <a:t>http://eewiki.newint.org/index.php/G8_hunger_summit:_protest_and_pra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think about other op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protest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, no-one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now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g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to the streets, nothing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anything, the government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inu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What’s the gramm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+ past perfect (had/n’t + past participl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If they hadn’t prote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+ past conditional (would/n’t have + past partici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no-one would have know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Is this past, present or future? P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they protest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other people know because of the protests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discuss all the protests and make more 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 sentences about what happened or what didn’t happ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3068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urke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az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ee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ther protests you know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small groups, write an article for a college / school news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Protests around the world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e abou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ifferent types of prot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give examples from the articles you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include at least 2 3</a:t>
            </a:r>
            <a:r>
              <a:rPr b="1" lang="en-GB" sz="3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condition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9:06:36Z</dcterms:created>
  <dc:creator>Linda Ruas</dc:creator>
  <dc:description/>
  <dc:language>en-US</dc:language>
  <cp:lastModifiedBy>Linda Ruas</cp:lastModifiedBy>
  <dcterms:modified xsi:type="dcterms:W3CDTF">2013-07-24T20:55:53Z</dcterms:modified>
  <cp:revision>36</cp:revision>
  <dc:subject/>
  <dc:title>People who change the world</dc:title>
</cp:coreProperties>
</file>